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9B0-AFA7-4B16-BE09-710F388F2C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0CE-DA4C-4860-B366-E7A2AFA4A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45F 5/08 (1995.01) 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44C 1/00 (1995.01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7BE-893C-4230-8A46-934C70E50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8080" y="4648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00000001[1]"/>
          <p:cNvPicPr/>
          <p:nvPr/>
        </p:nvPicPr>
        <p:blipFill>
          <a:blip r:embed="rId1"/>
          <a:stretch/>
        </p:blipFill>
        <p:spPr>
          <a:xfrm>
            <a:off x="685800" y="457200"/>
            <a:ext cx="5132520" cy="36450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13E-F871-4CDC-93CA-5F680373F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–  Удовлетворение жизненных потребностей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  –  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 -  обработка почвы в сельском и лесном хозяйст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00 – . ручные ор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02 – . .  заступы; лоп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01В1/22 - . орудия для обработки лужаек или газ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20A-A3B7-4F7C-8377-F194D27B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462-8A69-4111-B3C3-B8B545E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3AA-813C-42FA-A656-39E0B2A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5EF-F260-464B-8F21-91CD4F4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FAA-D364-4A74-A6A8-E002F0A2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D40-1CF3-4D1F-A1A2-6106B58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F20F-0EF8-4AE5-ACB6-D1A9CB3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D1CF-4D25-4F79-B06D-736FF1E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B45-1A2F-4887-9BFF-223BDD3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36E-A4F1-4B51-8A76-789E9AF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4ABB-6329-4BD3-B3C4-B90B627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C1F-F470-475F-B957-ACB8992C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A078-DC62-4EF7-9202-8CA89765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F7F2-1842-4F05-85D9-609604B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E211-EF6E-4F6E-B204-39EE6AA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2DD-27CA-4075-A81B-EA12469B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B32-27B8-4C2E-BCE6-0121855A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675D-34D8-4EA7-A2F4-D14ADE5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3F8A-9D8F-46AA-A80E-E003439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23F3-7B51-4C02-95F0-A087E4C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3640-FA81-497A-B8FE-FDFB0F1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E10B-A56C-4EFF-9BC3-18D6AB3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C6E-CE80-475F-8832-090D6BD1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760B-0EA3-4BD2-8420-0AE33C5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2921-B61F-4B8C-A68F-6CC864F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143D-33E8-4670-A29F-0846506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A7CE-98EB-489C-AE7F-997B876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B662-6CAB-4584-8AAC-3A6A66C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4EDC-D914-47CB-AC88-E75D4120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DABE2-868F-4AEB-916C-7BEEAA6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46DA-D549-424E-9106-83643DE5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09ED-E69B-4E9B-8222-75569DDB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946C-9D69-436A-AEC6-484BE57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A7A-ED0F-4AFD-8211-242E16A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5D16-217D-45E5-9AE2-453E060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B7AA-0F4B-4706-9E09-CCAF7A69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6CE3-205F-4EA1-892B-35EBE69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D15C6-4B8A-42CC-8A14-CADB07F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625F-3C29-48AC-B489-A928B95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B673-1BD5-4EE2-9A47-906FC01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81D7-91D4-4009-A29F-C6442C8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8D9D-C1E4-430B-AEEF-157B8E5F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CCB0-085E-4FA0-B764-0E3A4E1C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FCA-A68E-42DD-BC0B-CADB5AA5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39A-FB5E-4A91-BB2B-801F870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2F3-C69C-4206-AC72-CBCEA6D2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707-67C3-4AD0-8CC2-40B33A4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689-A3D2-4C5A-A55A-512907D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BD8-1781-4865-B941-77C5E92D46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BDC-02B9-452C-A084-0AF6E8D40D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1AB-DE1C-4DF0-8F2F-2BE40FAE18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14B1-095E-412D-9659-49353DE043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1.fips.ru/wps/portal/IPC/IPC2015_extended_XML/?xml=http://www1.fips.ru/IPC2015_extended_XML/AIpc-20150101_subclass-G_XML%5CAIpc20150101-G04C.xml#G04C%20%2021/04" TargetMode="External"/><Relationship Id="rId2" Type="http://schemas.openxmlformats.org/officeDocument/2006/relationships/hyperlink" Target="http://www1.fips.ru/wps/portal/IPC/IPC2015_extended_XML/?xml=http://www1.fips.ru/IPC2015_extended_XML/AIpc-20150101_subclass-G_XML%5CAIpc20150101-G04C.xml#G04C%20%2021/16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11.png"/>
          <p:cNvPicPr/>
          <p:nvPr/>
        </p:nvPicPr>
        <p:blipFill>
          <a:blip r:embed="rId1"/>
          <a:stretch/>
        </p:blipFill>
        <p:spPr>
          <a:xfrm>
            <a:off x="4838760" y="4581360"/>
            <a:ext cx="3890880" cy="1911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755496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Назначение и основные принципы построения систем классификации.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Электронные версии МПК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семинар в Ташкенте,</a:t>
            </a:r>
            <a:br>
              <a:rPr sz="3600"/>
            </a:br>
            <a:r>
              <a:rPr b="1" lang="ru-RU" sz="3600" spc="-1" strike="noStrike">
                <a:solidFill>
                  <a:srgbClr val="d91405"/>
                </a:solidFill>
                <a:latin typeface="Arial"/>
              </a:rPr>
              <a:t> 26-27 марта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201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3562200"/>
            <a:ext cx="4311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едеральный Институт Промышленной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ttp://www.fip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el: +7 (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495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53165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92360" y="4800240"/>
            <a:ext cx="495000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.н.с. Войцехо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оя Эдуар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2 о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9" descr="ФИПС ххх.png"/>
          <p:cNvPicPr/>
          <p:nvPr/>
        </p:nvPicPr>
        <p:blipFill>
          <a:blip r:embed="rId2"/>
          <a:stretch/>
        </p:blipFill>
        <p:spPr>
          <a:xfrm>
            <a:off x="127080" y="112680"/>
            <a:ext cx="116820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ерархичност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ерархические отношения между рубриками определяются всегда только количеством точек, стоящих перед текстом подгрупп, а не присвоенными индек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ерархичност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83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й анали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биологических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87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дких биологических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49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1n 33/50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имический анали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биологических 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2951280" y="2314440"/>
            <a:ext cx="541080" cy="709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Вспомогательные инструменты для использования МП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тсыл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) огранич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неогранич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) о преимущест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Примеч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пределения в электронном сл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А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сылки ограничительны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казывают на тематику, которая не классифицируется в данной рубрике!</a:t>
            </a:r>
            <a:r>
              <a:rPr b="0" lang="en-US" sz="4800" spc="-1" strike="noStrike">
                <a:solidFill>
                  <a:srgbClr val="b972e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"/>
              </a:rPr>
              <a:t>Пример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G02B 3/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ые или сложные линзы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(искусственные глаза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63F 2/14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; контактные линзы для глаз или для очко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02C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; стекла для часо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04B39/00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сылки о преимуществ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казывают на группу, которая имеет приоритет при классифицировании данного объ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cc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G04C21/02  .электромеханические часы, конструктивные элементы ( </a:t>
            </a: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21/04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21/1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меют преимущество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G04C 21/04  .для индикации времени суток (индикация времени с помощью акустических устройств  G 04B 21/0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нформативные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693200" cy="4419360"/>
          </a:xfrm>
          <a:prstGeom prst="rect">
            <a:avLst/>
          </a:prstGeom>
          <a:noFill/>
          <a:ln w="9360">
            <a:solidFill>
              <a:srgbClr val="b972e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91405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d91405"/>
                </a:solidFill>
                <a:latin typeface="Arial"/>
              </a:rPr>
              <a:t>Приводятся только в тексте </a:t>
            </a:r>
            <a:r>
              <a:rPr b="1" lang="ru-RU" sz="3000" spc="-1" strike="noStrike">
                <a:solidFill>
                  <a:srgbClr val="d91405"/>
                </a:solidFill>
                <a:latin typeface="Arial"/>
              </a:rPr>
              <a:t>Определений</a:t>
            </a:r>
            <a:r>
              <a:rPr b="0" lang="en-US" sz="3000" spc="-1" strike="noStrike">
                <a:solidFill>
                  <a:srgbClr val="d91405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Указывают на тематику, сходную с той, которая классифицируется в данной рубрике.</a:t>
            </a:r>
            <a:r>
              <a:rPr b="0" lang="ru-RU" sz="3000" spc="-1" strike="noStrike">
                <a:solidFill>
                  <a:srgbClr val="ed83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Например, указывают на область использования данного вида техн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информативной отсыл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06F12/00 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ка, адресация или распределение данных в системах или архитектурах памяти [4,5]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nformative refere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nformation storage in gener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G11B, G11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содерж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уществуют в электронном сло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Для перехода служит буква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D”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около индекса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39116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9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опред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7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содержания подразделен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Definition stat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связь с крупными тематическими областями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ычно на уровне подкласс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) (Relationships between large subject matter areas (usually at subclass level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ылки, имеющие отношение к классификаци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References relevant to classif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вные отсылк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nformative reference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е правила классифицирования в пределах подкласса / группы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pecial rules of classification within the subclass /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оссарий терминов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Glossary of term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онимы и ключевые словарь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ynonyms and keyword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создания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сбургское соглашение 1971 о Международной патентной классификации, вступившее в силу 7 октября 1975 года, предусматривает создание единой системы классификации, охватывающей патенты на изобретения, включая опубликованные патентные заявки, полезные модели и свидетельства о полезности . Первая редакция МПК действовала 1 сентября 1968 года по 30 июня 197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опред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686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головок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61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карства и медикаменты для терапевтических, стоматологических или гигиенически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пределение содерж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 данному подклассу относя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авы, которые использую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качестве медикаментов для стоматологии, например для искусственных зубов, для пломбирования или для покрытия зубов или для получения слепков для зубных проте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ч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зъясняют значение употребляемых терминов и выражений, определяют объем рубрик или указывают, каким образом следует классифицировать ту или иную тематик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огут относится к разделам, классам, подклассам, подзаголовкам, группам и подгрупп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543800" cy="5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ча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684000"/>
            <a:ext cx="82296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Примеч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спространяются на те места системы классификации, в которых они содержатся, и в случаях расхождения с общими правилами им отдается предпочт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, примеч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) после заголовка подкласс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08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меет преимущество перед примечанием после заголовка раздела 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примеч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D01F 6/00 Однокомпонентные синтетические или искусственные мононити или подобные нити из синтетических полимеров; их производство [2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мечани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классификации в этой группе основную составляющую сополимера выражают в мольных процентах. [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Функционально-ориентированные и отраслевые подразделения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936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ъект вообще –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функционально-ориентированное подраз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B01D – </a:t>
            </a: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Фильтрование; фильтрующий материал; его регенер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«специально приспособленный для» особого использования или цели 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раслевое подраз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61М 5/165 – фильтры для крови или для вливания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фавитно-предметный указатель (АПУ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инструмент разработан для облегчения ориентации в МПК, в нем все технические понятия, содержащиеся в МПК, расположены в алфавитном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Автоколлиматоры     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G02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-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использование 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металлорежущих станках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23Q 17/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-,-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 спектрометрии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G01J 3/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циональные классифик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данный момент существует только одна национальная классификация в Японском патентном ведомств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ее существовали немецкая патентная классификация, американская патентная классификация, а также европейская патентная классификация, которая использовалась в Международном Институте по патент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ы соответствия индекса МПК А01В1/04 в национальных классификациях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40258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Американская класс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294/5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43040" y="3048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Arial"/>
              </a:rPr>
              <a:t>Японская класс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Arial"/>
              </a:rPr>
              <a:t>А01В 1/04  2В0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МПК и СП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9864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местная Патентная Классификация была создана в 2013 году на основе классифик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CLA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яет собой более подробную, гибкую систему. Имеет те же принципы построения, что и МПК, но имеет отличия: систему индексирующих кодов, дополняющих схему. Рубрики в фигурных скобках  - это рубрики, отсутствующие в МП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эффективный инструмент поиска релевантных документов в международном масшта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- основа для определения области техники в отдельных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- основа статистического анализа уровня развития различных отраслей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писок полезных адресов электронных адресов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fip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multitra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.int/classifications/ip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epo.org/searching-for-patents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otd3202\Desktop\207045_record-8850-768x576.jpg"/>
          <p:cNvPicPr/>
          <p:nvPr/>
        </p:nvPicPr>
        <p:blipFill>
          <a:blip r:embed="rId1"/>
          <a:stretch/>
        </p:blipFill>
        <p:spPr>
          <a:xfrm>
            <a:off x="482760" y="851040"/>
            <a:ext cx="80452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НЦИПЫ ПОСТРОЕНИЯ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ПК имеет иерархическую структур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делы – 8 разде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ы - 1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классы - 6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ы – 7 3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руппы – 61 4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65A-1427-4222-8398-B4AF662DFA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cc00"/>
                </a:solidFill>
                <a:latin typeface="comic"/>
              </a:rPr>
              <a:t>Иерархическая структура МП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4" name="Diagram 3"/>
          <p:cNvGrpSpPr/>
          <p:nvPr/>
        </p:nvGrpSpPr>
        <p:grpSpPr>
          <a:xfrm>
            <a:off x="2296800" y="1612440"/>
            <a:ext cx="4416480" cy="4486680"/>
            <a:chOff x="2296800" y="1612440"/>
            <a:chExt cx="4416480" cy="4486680"/>
          </a:xfrm>
        </p:grpSpPr>
        <p:sp>
          <p:nvSpPr>
            <p:cNvPr id="285" name="_s1028"/>
            <p:cNvSpPr/>
            <p:nvPr/>
          </p:nvSpPr>
          <p:spPr>
            <a:xfrm flipH="1" flipV="1">
              <a:off x="3854160" y="225540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29"/>
            <p:cNvSpPr/>
            <p:nvPr/>
          </p:nvSpPr>
          <p:spPr>
            <a:xfrm>
              <a:off x="3501360" y="17643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30"/>
            <p:cNvSpPr/>
            <p:nvPr/>
          </p:nvSpPr>
          <p:spPr>
            <a:xfrm flipH="1" flipV="1">
              <a:off x="3300840" y="2630160"/>
              <a:ext cx="102816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1"/>
            <p:cNvSpPr/>
            <p:nvPr/>
          </p:nvSpPr>
          <p:spPr>
            <a:xfrm>
              <a:off x="2868120" y="21956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032"/>
            <p:cNvSpPr/>
            <p:nvPr/>
          </p:nvSpPr>
          <p:spPr>
            <a:xfrm flipH="1" flipV="1">
              <a:off x="2931120" y="3191040"/>
              <a:ext cx="1342440" cy="5652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033"/>
            <p:cNvSpPr/>
            <p:nvPr/>
          </p:nvSpPr>
          <p:spPr>
            <a:xfrm>
              <a:off x="2445120" y="28407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4"/>
            <p:cNvSpPr/>
            <p:nvPr/>
          </p:nvSpPr>
          <p:spPr>
            <a:xfrm flipH="1">
              <a:off x="2801160" y="3854160"/>
              <a:ext cx="1452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035"/>
            <p:cNvSpPr/>
            <p:nvPr/>
          </p:nvSpPr>
          <p:spPr>
            <a:xfrm>
              <a:off x="2296800" y="360108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036"/>
            <p:cNvSpPr/>
            <p:nvPr/>
          </p:nvSpPr>
          <p:spPr>
            <a:xfrm flipH="1">
              <a:off x="2931120" y="3951360"/>
              <a:ext cx="1342440" cy="5652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7"/>
            <p:cNvSpPr/>
            <p:nvPr/>
          </p:nvSpPr>
          <p:spPr>
            <a:xfrm>
              <a:off x="2446560" y="43617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038"/>
            <p:cNvSpPr/>
            <p:nvPr/>
          </p:nvSpPr>
          <p:spPr>
            <a:xfrm flipH="1">
              <a:off x="3300840" y="4034520"/>
              <a:ext cx="102672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039"/>
            <p:cNvSpPr/>
            <p:nvPr/>
          </p:nvSpPr>
          <p:spPr>
            <a:xfrm>
              <a:off x="2871360" y="500652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40"/>
            <p:cNvSpPr/>
            <p:nvPr/>
          </p:nvSpPr>
          <p:spPr>
            <a:xfrm flipH="1">
              <a:off x="3852360" y="408888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041"/>
            <p:cNvSpPr/>
            <p:nvPr/>
          </p:nvSpPr>
          <p:spPr>
            <a:xfrm>
              <a:off x="3506040" y="54363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1042"/>
            <p:cNvSpPr/>
            <p:nvPr/>
          </p:nvSpPr>
          <p:spPr>
            <a:xfrm>
              <a:off x="4503600" y="4108680"/>
              <a:ext cx="1440" cy="147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1043"/>
            <p:cNvSpPr/>
            <p:nvPr/>
          </p:nvSpPr>
          <p:spPr>
            <a:xfrm>
              <a:off x="4254480" y="55868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1044"/>
            <p:cNvSpPr/>
            <p:nvPr/>
          </p:nvSpPr>
          <p:spPr>
            <a:xfrm>
              <a:off x="4601520" y="4088880"/>
              <a:ext cx="554400" cy="136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1045"/>
            <p:cNvSpPr/>
            <p:nvPr/>
          </p:nvSpPr>
          <p:spPr>
            <a:xfrm>
              <a:off x="5003280" y="54345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1046"/>
            <p:cNvSpPr/>
            <p:nvPr/>
          </p:nvSpPr>
          <p:spPr>
            <a:xfrm>
              <a:off x="4682520" y="4034520"/>
              <a:ext cx="1026720" cy="1044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1047"/>
            <p:cNvSpPr/>
            <p:nvPr/>
          </p:nvSpPr>
          <p:spPr>
            <a:xfrm>
              <a:off x="5637960" y="500328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48"/>
            <p:cNvSpPr/>
            <p:nvPr/>
          </p:nvSpPr>
          <p:spPr>
            <a:xfrm>
              <a:off x="4736520" y="3951360"/>
              <a:ext cx="1342440" cy="567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49"/>
            <p:cNvSpPr/>
            <p:nvPr/>
          </p:nvSpPr>
          <p:spPr>
            <a:xfrm>
              <a:off x="6060960" y="43581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050"/>
            <p:cNvSpPr/>
            <p:nvPr/>
          </p:nvSpPr>
          <p:spPr>
            <a:xfrm>
              <a:off x="4755600" y="3854160"/>
              <a:ext cx="1452960" cy="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1051"/>
            <p:cNvSpPr/>
            <p:nvPr/>
          </p:nvSpPr>
          <p:spPr>
            <a:xfrm>
              <a:off x="6208920" y="35978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52"/>
            <p:cNvSpPr/>
            <p:nvPr/>
          </p:nvSpPr>
          <p:spPr>
            <a:xfrm flipV="1">
              <a:off x="4736520" y="3192840"/>
              <a:ext cx="1342440" cy="563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1053"/>
            <p:cNvSpPr/>
            <p:nvPr/>
          </p:nvSpPr>
          <p:spPr>
            <a:xfrm>
              <a:off x="6059520" y="283716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54"/>
            <p:cNvSpPr/>
            <p:nvPr/>
          </p:nvSpPr>
          <p:spPr>
            <a:xfrm flipV="1">
              <a:off x="4681080" y="2630160"/>
              <a:ext cx="1028160" cy="1042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1055"/>
            <p:cNvSpPr/>
            <p:nvPr/>
          </p:nvSpPr>
          <p:spPr>
            <a:xfrm>
              <a:off x="5634720" y="219240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1056"/>
            <p:cNvSpPr/>
            <p:nvPr/>
          </p:nvSpPr>
          <p:spPr>
            <a:xfrm flipV="1">
              <a:off x="4599720" y="2255400"/>
              <a:ext cx="556200" cy="13636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057"/>
            <p:cNvSpPr/>
            <p:nvPr/>
          </p:nvSpPr>
          <p:spPr>
            <a:xfrm>
              <a:off x="5000040" y="176292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58"/>
            <p:cNvSpPr/>
            <p:nvPr/>
          </p:nvSpPr>
          <p:spPr>
            <a:xfrm flipV="1">
              <a:off x="4503600" y="2125080"/>
              <a:ext cx="0" cy="147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1059"/>
            <p:cNvSpPr/>
            <p:nvPr/>
          </p:nvSpPr>
          <p:spPr>
            <a:xfrm>
              <a:off x="4251240" y="1612440"/>
              <a:ext cx="504360" cy="51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1060"/>
            <p:cNvSpPr/>
            <p:nvPr/>
          </p:nvSpPr>
          <p:spPr>
            <a:xfrm>
              <a:off x="4251240" y="3601080"/>
              <a:ext cx="504360" cy="512280"/>
            </a:xfrm>
            <a:prstGeom prst="ellipse">
              <a:avLst/>
            </a:prstGeom>
            <a:solidFill>
              <a:srgbClr val="b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41"/>
          <p:cNvSpPr/>
          <p:nvPr/>
        </p:nvSpPr>
        <p:spPr>
          <a:xfrm>
            <a:off x="480960" y="56610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01 – A63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2"/>
          <p:cNvSpPr/>
          <p:nvPr/>
        </p:nvSpPr>
        <p:spPr>
          <a:xfrm>
            <a:off x="179280" y="1413000"/>
            <a:ext cx="288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E39-633F-4259-8564-C56304E35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ждународная патентная классификация (МПК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23" name="Diagram 30"/>
          <p:cNvGrpSpPr/>
          <p:nvPr/>
        </p:nvGrpSpPr>
        <p:grpSpPr>
          <a:xfrm>
            <a:off x="847080" y="1473840"/>
            <a:ext cx="6085440" cy="5271480"/>
            <a:chOff x="847080" y="1473840"/>
            <a:chExt cx="6085440" cy="5271480"/>
          </a:xfrm>
        </p:grpSpPr>
        <p:sp>
          <p:nvSpPr>
            <p:cNvPr id="324" name="_s2052"/>
            <p:cNvSpPr/>
            <p:nvPr/>
          </p:nvSpPr>
          <p:spPr>
            <a:xfrm flipV="1">
              <a:off x="3382920" y="1473840"/>
              <a:ext cx="1013400" cy="877680"/>
            </a:xfrm>
            <a:custGeom>
              <a:avLst/>
              <a:gdLst>
                <a:gd name="textAreaLeft" fmla="*/ 363600 w 1013400"/>
                <a:gd name="textAreaRight" fmla="*/ 649800 w 1013400"/>
                <a:gd name="textAreaTop" fmla="*/ 315000 h 877680"/>
                <a:gd name="textAreaBottom" fmla="*/ 56268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2ef6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53"/>
            <p:cNvSpPr/>
            <p:nvPr/>
          </p:nvSpPr>
          <p:spPr>
            <a:xfrm flipV="1">
              <a:off x="2876040" y="2351880"/>
              <a:ext cx="2027160" cy="879840"/>
            </a:xfrm>
            <a:custGeom>
              <a:avLst/>
              <a:gdLst>
                <a:gd name="textAreaLeft" fmla="*/ 445680 w 2027160"/>
                <a:gd name="textAreaRight" fmla="*/ 1581480 w 2027160"/>
                <a:gd name="textAreaTop" fmla="*/ 193320 h 879840"/>
                <a:gd name="textAreaBottom" fmla="*/ 68652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2a4e4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54"/>
            <p:cNvSpPr/>
            <p:nvPr/>
          </p:nvSpPr>
          <p:spPr>
            <a:xfrm flipV="1">
              <a:off x="2369880" y="3231720"/>
              <a:ext cx="3040200" cy="877680"/>
            </a:xfrm>
            <a:custGeom>
              <a:avLst/>
              <a:gdLst>
                <a:gd name="textAreaLeft" fmla="*/ 527760 w 3040200"/>
                <a:gd name="textAreaRight" fmla="*/ 2512440 w 3040200"/>
                <a:gd name="textAreaTop" fmla="*/ 152280 h 877680"/>
                <a:gd name="textAreaBottom" fmla="*/ 7254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d835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01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55"/>
            <p:cNvSpPr/>
            <p:nvPr/>
          </p:nvSpPr>
          <p:spPr>
            <a:xfrm flipV="1">
              <a:off x="1860480" y="4109760"/>
              <a:ext cx="4059000" cy="877680"/>
            </a:xfrm>
            <a:custGeom>
              <a:avLst/>
              <a:gdLst>
                <a:gd name="textAreaLeft" fmla="*/ 610560 w 4059000"/>
                <a:gd name="textAreaRight" fmla="*/ 3448440 w 4059000"/>
                <a:gd name="textAreaTop" fmla="*/ 131760 h 877680"/>
                <a:gd name="textAreaBottom" fmla="*/ 74592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ef0b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01B 1/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2056"/>
            <p:cNvSpPr/>
            <p:nvPr/>
          </p:nvSpPr>
          <p:spPr>
            <a:xfrm flipV="1">
              <a:off x="1353960" y="4987440"/>
              <a:ext cx="5071680" cy="877680"/>
            </a:xfrm>
            <a:custGeom>
              <a:avLst/>
              <a:gdLst>
                <a:gd name="textAreaLeft" fmla="*/ 692640 w 5071680"/>
                <a:gd name="textAreaRight" fmla="*/ 4379040 w 5071680"/>
                <a:gd name="textAreaTop" fmla="*/ 119880 h 877680"/>
                <a:gd name="textAreaBottom" fmla="*/ 7578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972e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01B 1/0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2057"/>
            <p:cNvSpPr/>
            <p:nvPr/>
          </p:nvSpPr>
          <p:spPr>
            <a:xfrm flipV="1">
              <a:off x="847080" y="5865120"/>
              <a:ext cx="6085440" cy="879840"/>
            </a:xfrm>
            <a:custGeom>
              <a:avLst/>
              <a:gdLst>
                <a:gd name="textAreaLeft" fmla="*/ 774720 w 6085440"/>
                <a:gd name="textAreaRight" fmla="*/ 5310720 w 6085440"/>
                <a:gd name="textAreaTop" fmla="*/ 111960 h 879840"/>
                <a:gd name="textAreaBottom" fmla="*/ 76788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0ecf8"/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01В 1/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39"/>
          <p:cNvSpPr/>
          <p:nvPr/>
        </p:nvSpPr>
        <p:spPr>
          <a:xfrm>
            <a:off x="4347360" y="1752480"/>
            <a:ext cx="44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– Удовлетворение жизн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ей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1"/>
          <p:cNvSpPr/>
          <p:nvPr/>
        </p:nvSpPr>
        <p:spPr>
          <a:xfrm>
            <a:off x="5921280" y="41101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группа – Р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6172200" y="4849920"/>
            <a:ext cx="26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точечная подгруппа – заступы; лоп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5"/>
          <p:cNvSpPr/>
          <p:nvPr/>
        </p:nvSpPr>
        <p:spPr>
          <a:xfrm>
            <a:off x="5527080" y="31370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ласс-Обработка поч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4899960" y="249552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6785280" y="5943600"/>
            <a:ext cx="18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точе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убь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екс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ржание (раздела, класса, подклас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39400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G02B5/08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Архитектоника классификационных индекс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533520" y="2114640"/>
            <a:ext cx="8610480" cy="384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-  ФИЗ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G02 -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G02B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ОПТИЧЕСКИ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02B 5/00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ТИЧЕСКИЕ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ЛЕМЕНТЫ, ИНЫЕ ЧЕМ ЛИНЗЫ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G02B 5/08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ЕР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хомиров Игорь Игоревич</dc:creator>
  <dc:description/>
  <dc:language>en-US</dc:language>
  <cp:lastModifiedBy>otd3202</cp:lastModifiedBy>
  <dcterms:modified xsi:type="dcterms:W3CDTF">2019-03-18T08:22:16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